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1130-7693-41B9-9092-B6AF5D1C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8201-275F-4041-87A8-0A4EF1B0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CF11-03FF-43E3-9562-5F640D8A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295C-D2B5-453C-B03A-F8633AFC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3F4E-5A0C-40F4-AF5D-837139B5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4A07-EFCD-4B29-A282-1268F1F5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47A3-57F4-4BC3-8467-FF1334DF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5E77-DF8F-4168-A227-19EAC887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2B47-F74F-40CB-9A17-308431D4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7472-545F-4643-9790-98C318EE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2E8D-D492-4D78-8BE7-9B2E7673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4E03-0C47-4F15-BB43-24ED4795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E7A6-0EE3-4EED-BCA4-4EA8C3EB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56EE-75B5-4E18-A599-9729B2C2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F83A-D7DD-4C3E-9D90-5C3152F7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A5A4-3A23-408B-8491-4B4440CC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807A-EC38-4A20-BF09-064C4528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BA20-1BD4-4F53-A572-3075C719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C50E-8ECC-4589-8B10-133E2BBB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4E27-3413-4E8B-BE38-228FC781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55FE-A07E-4B07-BCB2-E1B719CF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DDB4-0A32-4D76-9C8F-390E0A1D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9E72-FCBD-498F-ADF4-C20C9CBB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66E5-C889-4FD8-9D00-D54A372D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DC72-246E-4885-A38B-7A8B872E391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3683-2E7B-45B6-B7C4-6367AACEC42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ELCOME!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3770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howing respect by listening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ying attention when I am talking and when your classmates are asking questions or sharing. Do not put your head down, you might miss someth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rs. McCall-What you can expect from me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husia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nse of Hum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p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human being, I make mistakes…we all 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believe in the constructivist school of teac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believe in equity not equa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 expect from you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try your b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particip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show resp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be open-mind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rs. McCall’s Rules to a Happier Classroom. </a:t>
            </a:r>
            <a:r>
              <a:rPr b="1" lang="en-US" sz="36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y job is to teach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Your job is to learn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only rule i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w respect to me, yourself, your classma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pe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s like the following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howing respect when the bell ring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must be in your seat, ready to begin working on the board assignment when the bell ring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howing respect by being prepared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must have proper materials (books, pencils, paper, etc) Any homework assignments are due at the beginning of the period to the top tra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ryone must have an English notebook where they keep all their writings. This will be collected period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howing respect by knowing when to talk and when to zip it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intain silence during silent work period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7:00:07Z</dcterms:created>
  <dc:creator>rebecca</dc:creator>
  <dc:description/>
  <dc:language>en-US</dc:language>
  <cp:lastModifiedBy>Angie</cp:lastModifiedBy>
  <dcterms:modified xsi:type="dcterms:W3CDTF">2009-08-18T06:48:56Z</dcterms:modified>
  <cp:revision>3</cp:revision>
  <dc:subject/>
  <dc:title>Mrs. McCall’s Rules to a Happier Classroom. </dc:title>
</cp:coreProperties>
</file>